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D0F-4E10-4304-AA0D-41C11F85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43A-FC20-4A09-829E-EAF682EF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6A39-0E19-4C41-A25A-3C42C838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7A9-22A4-456B-AE4C-285F75D0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BA2-F80C-43B5-8F46-FDFED38B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D3E-54A7-41B3-9B51-D8EC6229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143-BE8D-4078-BFC3-907A66CD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882-A6CF-40A3-B108-717AE62A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AE2-527F-4773-AF81-D4F893E4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6F4-99E6-4EF7-8939-411C0AE0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A9EE-BB7A-4C15-B08A-0EE6DBDE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427-E62D-4DFD-B498-AC373603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C01F-1903-457C-A9F8-FDA706C7B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1143000"/>
            <a:ext cx="83059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doni MT Black"/>
              </a:rPr>
              <a:t>weB LOGS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doni MT Black"/>
              <a:ea typeface="Bodoni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29:09Z</dcterms:created>
  <dc:creator>ElizabethBryant</dc:creator>
  <dc:description/>
  <dc:language>en-US</dc:language>
  <cp:lastModifiedBy>ElizabethBryant</cp:lastModifiedBy>
  <dcterms:modified xsi:type="dcterms:W3CDTF">2009-03-19T15:23:51Z</dcterms:modified>
  <cp:revision>2</cp:revision>
  <dc:subject/>
  <dc:title>Slide 1</dc:title>
</cp:coreProperties>
</file>